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E289-1E3C-4816-A5CA-FD3905EE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007A-63F3-4D9C-99EE-D3A21E40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06C35-31C4-43E8-A0A5-05EBD725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88D2E9-AF10-4C2B-B659-D2605E90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5D9CE-AFFF-4482-9324-B331D736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B5F29-9EDF-43E7-9C24-5C9946F0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9564C-1D73-42D7-8E97-B2991EC6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36D8D6-D7B7-44F2-B792-CE65A559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1D0E7-A9F3-4DD2-9482-9AC8DA47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6E331-E73B-45AB-97AD-68692F3B9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50A2C7-CE3B-4356-94EB-6D123488D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5FAE40-C897-4335-8B06-BD9241CC4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228F-F61C-4294-8031-6C86D3406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67F88-5C8A-4DF8-AD73-756F44A9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2F8685-BCE3-4A9A-9389-AE293879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FEA4C7-AC96-4C51-8A0F-2A8C5EC9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ED441-F0A4-4E57-97F4-487DEA8D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D07F47-2219-4950-811F-12E5DA69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43C7E8-1B9F-413E-8D16-1100456F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99C26-B68E-403C-9E47-3469AF42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1F8402-2EAE-44A9-9074-82C73B4D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61CD80-D713-447F-BA42-5890E1C5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D79DED-2879-44A4-B751-7DF442AB9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96C1-207D-4338-94C6-723966AD3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19996-A7E4-4BD5-BB42-150AA8C73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E108E-DA42-49AD-B1BB-F241D556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72D47-57FC-4778-9D5A-8E1D87CC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84B57-9BD3-4262-B937-890AE383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4A00D-882B-42B3-B972-125CB39B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C349EF-F145-4C70-916E-6113D2F5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A5BD2-60FD-4A0C-9F21-62E63640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44E62-9F03-4E25-AAAE-A6779398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AAF95-F060-4045-B335-53CE5788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63D05-1581-4DC4-8547-DDCA82BE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A8FC-A33F-4D04-82EA-E9A92A5C7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E2FA33-5E10-4B16-9E6C-218E74AA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CEFA1-4625-4B1D-B0A2-4E9764B18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82EB5-5E0D-4CF0-AC9C-703AA542C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9FB6BE-4780-4FA8-93FB-C76EA11F0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8562B0-8EC8-4CEB-8DB2-2C0A865E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D8C1E6-A9D1-4F9D-861A-A5167FA5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A413D6-FFF9-48E6-80B5-C2646DEE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CACFA4-2D30-4DD1-A154-751EB173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D8AD5C-A8A0-487C-8926-7B9C2690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FB6D2D-220E-45C3-AD12-7097E83C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C9C5-C46D-4183-9101-CEBB1020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EBFCE6-CE98-4E82-803A-5B06659E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D0B097-D00D-47E9-AE8D-E2F018C9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9E4570-D601-4015-9F52-DE8FE03D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3B414B-E686-468C-B868-43D89702A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532DB3-F8CF-4778-84C1-0D24233FB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930740-26AA-4A3B-A9CD-D2BA1DCB4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010552-4C53-4AC5-B787-30ADC154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40BEF2-A286-4504-900F-4D26C89A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ACEBDA-43F6-4493-9583-07ACC568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195D0F-1134-4169-BAD0-15C38947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80C5-BC86-462F-9827-6C4C57B8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2724BC-7A94-49D1-B07D-5494DE27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C0F29B-7E91-4832-B6CF-C3606B8D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5AAFDA-027B-44D3-AB93-B992A130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AD6E1B-FA64-443B-BC45-AAA3288C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5137FD-92AF-40D1-99BE-381F9B7E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0B775D-3AE5-48EA-BD58-102FED508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48C145-A08D-423D-B5B0-CB71C1FEB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BB4EC8-80B7-4319-9249-BC2030382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A5D3F5-B744-4E2C-B234-2C25BBE6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FA8DB4-B5DF-4EBB-BD27-299E6194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3734-83ED-4C74-8F36-603403CD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73340B-63D2-4C56-9623-66331FCC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74596E-6E79-414A-9F89-4B699D7E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9D91F1-BC3F-4561-8204-9EA3D6EB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20296C-BE8D-4C94-B98C-45BE2CE3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3FF80F-08D3-47FF-9CC3-DE45A75B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D51B5A-2095-45E8-ADFC-3C42018E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44B960-0FA4-4CF3-B50C-6A1DD4B5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566121-6E08-4C6A-9B98-FA6E664F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FAF9D5-8DED-4ADA-BEAD-8A3717788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744AB5-6997-4461-AF5C-3158A0480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8191-7910-48F7-ACA1-7655022C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0ACFA6-B3C2-472C-AE73-334B38CE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7826F2-79EE-4F9D-8176-341BF1C9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55590F-36D3-437A-8D16-F2106F8C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4C1089-FE34-497D-941B-B10A7EB4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9882B4-9594-4D3A-8D03-90F401DB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B4B947-FF94-4CFF-BF35-20EF8604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88A7E5-1F8C-4E4B-9C32-637679D2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EDED87-126B-4C60-838E-E1AF5F69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41FC92-2267-4B8B-B748-B4D53224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A827AD-52C2-4A9A-9ACD-5A6FAD86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1D73-28C0-425E-BEF6-87907489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5D7457-125C-4CC2-92F6-F5F751862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9D4C65-67E3-4F07-A1DB-D81F18415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EF73FC-59F8-4EF3-A4F4-CA1D1CA9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16CBD8-BEA8-48F0-A9B7-93523527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8C8C78-C606-427D-A5AA-ACB6C26E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1D5751-B8E8-4B5C-9376-F1A5E7A9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EF9B8E-20F1-491F-AB0B-B744C09E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029B72-F940-41E8-85FB-0F40FC8B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65AE40-A913-45AB-9E66-5C2582B9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DC184A-8EDF-494F-B994-741ED532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EEFB-8824-4C69-B155-83366ED0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5BB5E0-FAA3-4552-B42B-D2BE3040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C9077E-1BEA-4720-AC48-3627A4842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27817D-5809-4858-9769-DC40EBBA7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771D6C-E34F-40F4-907C-220054C2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6511B2-A84C-46C7-AFCA-77182166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2CB252-4682-4BD9-95B9-8D1A0F3E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EDD2EF-2104-4052-B69A-E5C6FDF4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56E403-8A08-4B56-9914-DE88E98E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E67F8E-09A5-419D-A521-81F28BF8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C89DDA-67BA-4A55-9F1E-56999D9E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101C-7951-41B8-B122-5A9B8A7C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B31D-E3B6-4A75-833D-15AB47D2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FA351F-1F36-464E-A183-110C3DFF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BDE7E2-CF10-4DA5-8259-EEB9BEF0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13BF24-9E3E-43DC-A8E1-1CAF24F6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3ECAFD-0904-47FC-9B3C-9862CD0C0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61C5B3-9394-422E-B4DF-719EEA2E2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544692-052B-4150-8B6B-025616EB8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3C73B9-ACB5-4401-8BA7-8738CABF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3A0C1B-75AC-41E3-85C6-D3D14F90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6CE4D2-EA07-4447-9DDD-7BE5FEA4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CB998C-8301-461A-A2D7-0E2E9485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0226-18CB-4AC5-9FE4-49C8ABF7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73DA1E-0BF0-4A29-8A63-4108C7A1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8ACDB7-1E99-46F1-AF94-4EAB0D22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178BCE-3A20-4897-B234-5A9F77EE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AE817F-12B9-4433-B4FE-09F23290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57D2A3-A4E0-4220-A8C6-AEAB370A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E27A61-7B8C-4005-924E-33F04015E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2F1608-32F6-49EE-89A7-385453039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62FB18-7E63-40C5-9D92-FCEA1E5AD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3513CB-5257-492F-8B4C-38920EC1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F5B3C3-4697-4DDE-ACBA-7E84D89B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677E-9AE7-437E-97AC-AA802EC4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36F12A-2F1B-4986-ADBD-CAD93C80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E6AE59-3425-4692-8C78-2FEC5AFC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EF6C8D-4D1B-48BB-A26F-F50A7445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43601A-565B-4594-9FA4-33E66425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5203D7-0387-43C1-9BCE-E54D415B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43888F-A97B-4215-8D80-1825262B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735D83-55AB-4260-9CD2-D3DC56EA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4E08FD-AD57-4C37-AEC9-52CB897BB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42547C-BF0F-404E-B617-AEDF5AB1F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3B0D82-B0BE-4C3B-BDA7-F9CB3679A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EFCD-35B6-445D-89CD-2B932ED93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917E3D-45E5-443B-AAA4-C7666726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E9A3D2-A682-4397-834A-FE9A8F37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02F02A-1DE6-4590-B922-804CB2E7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2C6720-8BB0-4DAC-8A8F-3C272AD1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58B1A0-F9EF-40A7-897F-70EAC488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BC2CB0-07D8-4CDC-BCFE-5B7E5835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9C644C-F473-4D2F-907E-673EE537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CBFC27-709E-4D99-9973-5266C85F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6ADE6A-6F48-4205-B5DE-344B0733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0F6A80-AB63-4E40-8F87-0889AEB85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3455-D9AB-417F-9982-D306E8279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966EA7-6153-40F2-80DC-1589D6F4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984575-C4AB-448F-8B55-A339332A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907F64-C19B-4582-B7F7-485BD753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8A222D-1A83-418D-892C-2062A23B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F3B951-610C-41A6-B115-B88F9E62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BA46F1-6DE7-4CCB-A8EF-82277BF5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E4D41C-9661-4A74-8D59-A2DCF471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3ABF4A-7462-42DA-AC34-A0F2C996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8AFB24-6EB2-4E60-B58C-61783269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5A1541-8654-43FF-B4D8-03C87986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3B7D8-1483-4B5B-8784-F97940975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2DF8D9-D412-4B4D-B5A2-B7E4345A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587B51-115A-4298-90C9-6637018CF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495FE8-6833-4001-9D58-D537A9D78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C8E4D-2560-48C0-9DC4-F3134EE1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61449-0E96-48AC-A643-01B6FAF3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DF892-4F54-48A2-BE2C-1B7E2BAF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81AF9-0C66-4118-8470-0C485401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9FBD-6C26-4AA1-86BE-8C69CCC6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F84EE-8E3B-4F8B-95C9-EDA1EC63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B0A67-F83D-4E14-B222-9FC459E3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C1921-54EA-425C-AA85-EDA15263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A6244-A8D2-4A35-AF8D-8C186997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2CF9C-75CE-4DDE-816D-B5ABEAF3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A3FF5-28A3-4192-845D-CB9794D6A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932A0-EF63-4A3B-8BD6-E2276E978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0885F-662C-4383-8DF3-697A6F4D1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FFF57-C32F-4F9A-96F3-C1765B02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78E99-9A1E-4F0B-A074-CD13BD23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AC5A-9A53-448D-A2F9-491C80A4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C04C9-FFC9-4666-8844-48692253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FFAC9-1021-446E-9A2B-134ED3CB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CF399-512D-4D5C-A51B-12158062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F3FC2-29E2-4706-BA8F-BC2AF303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AC527-6546-4692-9C93-355CCCF9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C2860-605A-4C42-841C-81ED52FB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A35B0-50B0-4B10-A9EF-1FCC5BEB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552C9-107C-4F34-910D-605461511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8F1D6-D754-49FA-B7F5-61ABD7C33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265EC-1015-40DD-8640-50911C9E7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DA07-530C-47BC-958B-FBACE6BF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7796B-CB4C-4309-B9A9-7F2CDDB6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C75C9-431E-416F-8CF5-986A8EBE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0D22B-3086-4FE6-BE08-3B3E3486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9BD3E-F53F-4E70-A870-5237FF01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A8581-79B8-4E12-B938-1F98644D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BA97A-B55E-4823-801F-44B58D4F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0F2AB-FF84-49BE-A9FC-36895B84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B4079-3CC0-4273-B1D1-D07A7873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90AD2-F4D6-4C08-AA89-48B1A47B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95EED-D0B7-40D9-AAE7-7BA997EA3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5A2A-D2F8-4661-8015-F7BC54C3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B69ED-CCE9-44F7-981F-2DB984F36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881C8-7563-4658-BC11-9C944DEBA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14DFA-0E8B-4FC7-9F90-926C43A9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4CBDB-C17B-4464-AEF6-9AE96ED1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12732-8CCE-42C9-B21E-72D62B48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56829-93EE-4E08-8530-A40EC7D3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4D508-5F79-4964-B8A7-08E838E0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F842C-2A36-478F-93DA-FA900736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559D3-69EB-4346-879E-C45150A7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29F69-F5CB-44A5-992A-FF7F6A5F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0EF8-2F8C-4EE4-BCD6-FD2FC4F7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F8562-71C5-4CD1-A859-ECD759AC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C6B08-21CC-447C-B0BC-E1A5412B5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059CB-02F9-424F-B7FF-364621A33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CDB4D-720E-4971-8C0A-8B470F67F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4B482-381C-483F-B114-8E4ED484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B7338-2505-4122-8F24-280B44FA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8A629-94FB-4D85-884A-313E5FC7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53D45-BC72-4B34-86E0-A7D582DA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E2D5A-6D91-4234-B769-E76E0D0D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D3B95-0A09-4C1B-9E50-0CD137DE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4BCF-FDB8-48CD-BF69-2379932E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655FF-8CD3-4A1F-8EE8-CFC7FE90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6A05F-6640-4D9E-BBE2-0A75530E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93D16-136F-4DA1-8E5C-05B99FB8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85A4B-A069-4B25-96F3-4429F8AAB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AA76F-3AC3-4711-8FCB-1FE20E7E2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70AF5-1077-453C-9453-BDC1C797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5CDD3-67CB-42C2-96C8-E2718905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F7EF5-B5D5-43E2-A74B-70975CCE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1590B-BF3B-4109-89A4-34659440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ED231-DB39-41F1-A60A-865BF6FE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D747-07BD-4C5D-8D1F-BF3B6EB4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211B6-4E43-46B2-B61D-39D5373D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B93E9-2658-4E20-9C85-27FF239B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00E92-3834-42E4-8D5F-1B2E3BC8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4DB7A-4CCE-4C2F-9807-D5D85F22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93CB7-3BCC-4057-837C-7C31E599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91EEB-E02C-4AF2-8013-78D1D77EC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2727F-E3BC-404B-BE0B-72F99A137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2FA31-A26E-4C73-9271-B3AD2445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D48315-4170-4626-A463-BCAE3340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2D9CB-F980-47C3-8BE6-1AE041DE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C5F3-B3A0-4C2C-B2D3-771D21EF7B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AA9F-C870-473F-B01F-FA7474AD5E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8371-66B5-419A-89E8-6A5FBC4505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0333-6BF2-4167-9C46-2B725CA082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0F7A-61A0-4724-B39F-36ABBB529B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B27D-9173-4EFA-9EF4-F7FAD2BBAC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D08F-EC1C-46E7-937A-84879745C4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BD1C-C529-47CA-81B9-67984CD3BB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1278-8FF5-49E1-ABBE-B5857582E8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CDF8-00BD-4BF2-9AF1-E83F56D6A9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DBBF-2A27-4D5B-A0DF-39213BB358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90A1-3E0C-4EBE-98CE-54A7D967E3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8B30-94CA-4401-BFBF-C2DD2C5046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5363-16CB-49E1-85E6-57CDB39868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08DE-275C-4608-AF89-B6308483CB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2197-67DB-44F2-803C-B05D68B7C7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5D52-CA37-4B16-9671-62AF6E4AF5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D454-3306-4581-8F0B-919701A22B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AB69-AF28-48EB-9C08-BE3A4FE19C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234B-AF8A-4FB0-939E-06B4C387E8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9653-A8EB-418F-BB18-534A47929A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CD96-5A2A-4D73-9381-BC431DA4C8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3E34-FC70-4FB3-9F0C-BA337D4AA7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8428-31B5-4901-8525-D7490CF632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6EF4-B23F-41D4-AE73-F1BFF448D6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940E-7A85-42FD-A467-1D911360AA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302B-71D7-4A6C-A14E-CD0B722DCE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C63B-30A7-4AB6-A42D-9402374150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5D26-584F-4324-BA1A-5CA4EA5882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6844-5551-4CCE-8362-5108A08ABA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4C58-1CAC-4D16-B0F8-4B7AF8AEDE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CC79-7115-4A06-BEEB-D96A8E1E0E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9006-945F-460F-BF16-5734571D09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6717-052E-4D75-AD77-B8F5ADDA49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CF2A-432C-4EA5-82B9-094519AFC1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136C-378E-4019-988A-1A53E17995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A552-9F7D-4F5E-B1C5-CEA39DDBC8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C53F-C917-4A5F-9352-B65D8429F7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B068-9B23-450A-A2B0-A5430BBCB2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0C3D-EF0C-4391-AEBB-51065258A2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766880" y="3200400"/>
            <a:ext cx="56102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37960" y="806400"/>
            <a:ext cx="8668080" cy="57913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727440" y="198900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6237360" y="198900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2781360" y="234936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4572000" y="2349360"/>
            <a:ext cx="576360" cy="2574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2556000" y="2708280"/>
            <a:ext cx="576000" cy="2570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5219640" y="2717640"/>
            <a:ext cx="576360" cy="2574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3267000" y="3429000"/>
            <a:ext cx="576360" cy="2570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5022720" y="3429000"/>
            <a:ext cx="576360" cy="2570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2771640" y="3789360"/>
            <a:ext cx="576360" cy="2570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4427640" y="3789360"/>
            <a:ext cx="576000" cy="257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5724360" y="3780000"/>
            <a:ext cx="576360" cy="2570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2719440" y="4149720"/>
            <a:ext cx="576360" cy="2570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4005360" y="4149720"/>
            <a:ext cx="576000" cy="2570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5689440" y="4149720"/>
            <a:ext cx="576360" cy="2570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3635280" y="5041800"/>
            <a:ext cx="576360" cy="2574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7"/>
          <a:stretch/>
        </p:blipFill>
        <p:spPr>
          <a:xfrm>
            <a:off x="2916360" y="5492880"/>
            <a:ext cx="576000" cy="2570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8"/>
          <a:stretch/>
        </p:blipFill>
        <p:spPr>
          <a:xfrm>
            <a:off x="2916360" y="5940360"/>
            <a:ext cx="576000" cy="2574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9"/>
          <a:stretch/>
        </p:blipFill>
        <p:spPr>
          <a:xfrm>
            <a:off x="6640560" y="6353280"/>
            <a:ext cx="57636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9410" descr=""/>
          <p:cNvPicPr/>
          <p:nvPr/>
        </p:nvPicPr>
        <p:blipFill>
          <a:blip r:embed="rId1"/>
          <a:stretch/>
        </p:blipFill>
        <p:spPr>
          <a:xfrm>
            <a:off x="438120" y="1824120"/>
            <a:ext cx="8267760" cy="3209760"/>
          </a:xfrm>
          <a:prstGeom prst="rect">
            <a:avLst/>
          </a:prstGeom>
          <a:ln w="0">
            <a:noFill/>
          </a:ln>
        </p:spPr>
      </p:pic>
      <p:pic>
        <p:nvPicPr>
          <p:cNvPr id="942" name="图片 59411" descr=""/>
          <p:cNvPicPr/>
          <p:nvPr/>
        </p:nvPicPr>
        <p:blipFill>
          <a:blip r:embed="rId2"/>
          <a:stretch/>
        </p:blipFill>
        <p:spPr>
          <a:xfrm>
            <a:off x="876240" y="2928960"/>
            <a:ext cx="77533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组合 58376"/>
          <p:cNvGrpSpPr/>
          <p:nvPr/>
        </p:nvGrpSpPr>
        <p:grpSpPr>
          <a:xfrm>
            <a:off x="290520" y="1857240"/>
            <a:ext cx="8562960" cy="3143520"/>
            <a:chOff x="290520" y="1857240"/>
            <a:chExt cx="8562960" cy="3143520"/>
          </a:xfrm>
        </p:grpSpPr>
        <p:pic>
          <p:nvPicPr>
            <p:cNvPr id="944" name="图片 58373" descr=""/>
            <p:cNvPicPr/>
            <p:nvPr/>
          </p:nvPicPr>
          <p:blipFill>
            <a:blip r:embed="rId1"/>
            <a:stretch/>
          </p:blipFill>
          <p:spPr>
            <a:xfrm>
              <a:off x="290520" y="1857240"/>
              <a:ext cx="8562960" cy="314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5" name="图片 58375" descr=""/>
            <p:cNvPicPr/>
            <p:nvPr/>
          </p:nvPicPr>
          <p:blipFill>
            <a:blip r:embed="rId2"/>
            <a:stretch/>
          </p:blipFill>
          <p:spPr>
            <a:xfrm>
              <a:off x="1185840" y="2300400"/>
              <a:ext cx="7172280" cy="2276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7236000" y="4629240"/>
            <a:ext cx="1439640" cy="257040"/>
          </a:xfrm>
          <a:prstGeom prst="rect">
            <a:avLst/>
          </a:prstGeom>
          <a:ln w="0">
            <a:noFill/>
          </a:ln>
        </p:spPr>
      </p:pic>
      <p:sp>
        <p:nvSpPr>
          <p:cNvPr id="947" name="直接连接符 58377"/>
          <p:cNvSpPr/>
          <p:nvPr/>
        </p:nvSpPr>
        <p:spPr>
          <a:xfrm>
            <a:off x="1835280" y="3429000"/>
            <a:ext cx="5400720" cy="8636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4356000" y="4610160"/>
            <a:ext cx="1440000" cy="257040"/>
          </a:xfrm>
          <a:prstGeom prst="rect">
            <a:avLst/>
          </a:prstGeom>
          <a:ln w="0">
            <a:noFill/>
          </a:ln>
        </p:spPr>
      </p:pic>
      <p:sp>
        <p:nvSpPr>
          <p:cNvPr id="949" name="直接连接符 58379"/>
          <p:cNvSpPr/>
          <p:nvPr/>
        </p:nvSpPr>
        <p:spPr>
          <a:xfrm flipH="1">
            <a:off x="3851280" y="3429000"/>
            <a:ext cx="504720" cy="12240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直接连接符 58380"/>
          <p:cNvSpPr/>
          <p:nvPr/>
        </p:nvSpPr>
        <p:spPr>
          <a:xfrm flipH="1">
            <a:off x="1907640" y="3500280"/>
            <a:ext cx="5256360" cy="8654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1" name="Picture 1" descr=""/>
          <p:cNvPicPr/>
          <p:nvPr/>
        </p:nvPicPr>
        <p:blipFill>
          <a:blip r:embed="rId5"/>
          <a:stretch/>
        </p:blipFill>
        <p:spPr>
          <a:xfrm>
            <a:off x="1557360" y="4629240"/>
            <a:ext cx="144000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2:04:24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